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ED5-636F-4AAD-B3CA-11917CD039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5F4-8C62-4FF0-92AD-5FEA62917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0A3-CB6D-4AC7-B435-4E2CBA12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5E0-9D11-4523-9D89-C2911816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C81-5D83-4B48-AAF3-EC68B5B6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058-E2DC-48F6-8250-256F93D4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BEE-5D82-42B0-AF8B-FA2167F3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264-927C-4B8C-8F62-BE914A70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1BC-12D0-48FF-976C-717EF341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0FC-21C8-4F54-89FE-D31FBC3A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146-2307-48D0-BCCC-E45F950B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E39-9A01-4039-883F-C19D415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2C9-1D52-4BE5-A61A-B9E9D292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F46-7C4F-4A04-A167-9AD605C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74F9-F24B-4573-952A-A7CB037B11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4200" y="1349280"/>
            <a:ext cx="86439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τερ, δοξασον σου το ὀνο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ἐβαπτισα ὑμας ὑδατι, αὐτος δε βαπτισει ὑμας ἐν πνευματι   ἁγ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εἰπεν αὐτῃ∙ Θυγατηρ, ἡ πιστις σου ἐσωσε σε∙ ὑπαγε εἰς    εἰρη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ῳ ζωη ἠν, και ἡ ζωη ἠν υο φως των ἀ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λογος σαρξ ἐγεν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υνη εἰπεν αὐτῳ∙ Οὐκ ἐχω ἀνδρα. λεγει αὐτῃ ὁ Ἰησους, Καλως εἰπας ὁτι Ἀνδρα οὐκ ἐχ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1349280"/>
            <a:ext cx="864396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οις ὁ Ἰησους∙ Εἰπον ὑμιν και οὐ πιστευετε∙ τα ἐργα ἁ ἐγω ποιω ἐν τῳ ὀνοματι του πατρος μου ταυτα μαρτυρει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ῳ Σιμων Πετρος∙ Κυριε, τίνι ἀκολουθησ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ῥηματα ζωης αἰωνιου ἐχ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said to him, ‘Why do your disciples not eat appropriately with their hand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n the Lord neither is a wife separate from a husband nor a husband separate from a w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ce to you (pl.) and peace from God our father and the Lord Jesus Christ our s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st as he spoke through the mouth of his holy prophets, he will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98280" y="1157400"/>
            <a:ext cx="9072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Σιμων εἰπεν∙ Κυριε, δι’ ὁλης νυκτος ἠργαζομεθα και οὐκ ἐλαβομεν∙ ἐπι δε τῳ ῥηματι σου ἐργασομεθα πα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ἰδου ἠλθεν ἀνηρ ᾡ ὀνομα Ἰαιρος και οὑτος ἀρχων της συναγωγης ὑπηρχεν, και πεσων παρα τους ποδας Ἰησου παρεκαλει αὐτον εἰσελθειν εἰς τον οἰκο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ἀνηρ ἐστιν κεφαλη της γυναικος ὡς και ὁ Χριστος κεφαλη της ἐκκλησιας, αὐτος σωτηρ του σωμα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υλος ἀποστολος Χριστου Ἰησου κατ’ ἐξουσιαν θεου σωτηρος ἡμων και Χριστου Ἰησου της ἐλπιδος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του θεου εἰσιν οὑτοι οἳ οὐκ ἐξ αἱματων οὐδε ἐκ θεληματος σαρκος οὐδ’ ἐκ θεληματος ἀνδρος ἀλλ’ ἐκ θεου γιν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δαιμονιον αὐτον ἐβαλλεν εἰς πυρ και εἰς ὑδ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42920" y="100008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ρχοντες εἰσηλθον λεγοντες∙ Που ἐστιν ὁ ἀρχων των Ἱουδα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μεν γαρ αὐτου τον ἀστερα και ἠλθομεν προσκυνησα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νω ὁ Ἰησους ὁτι ἠκουσαν οἱ Φαρισαιοι ὁτι Ἰησους πλειονας μαθητας ποιει και βαπτιζει ἠ Ἰωαν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n love we will receiv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the hope of righteousness by the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w hope and love remain, and we wish to hav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fe does not have authority over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her own body, but likewise the husband also does not have authority over his own body but the wif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o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hour the disciples came to Jesus, saying, ‘Who therefore is greater in the kingdom of heaven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14240" y="1643040"/>
            <a:ext cx="7715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3.32-3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κάθη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as sitt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ὶ αὐτὸν ὄχλος, καὶ λέγουσιν αὐτῷ, Ἰδοὺ ἡ μήτηρ σπυ καὶ οἱ ἀδελφοί σου καὶ αἱ ἀδελφαί σου ἔξω ζητοῦσίν σε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ἀποκρ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swer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ῖς λέγει, Τίς ἐστιν ἡ μήτηρ μου καὶ οἱ ἀδελφοί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εριβλεψάμε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ὺς περὶ αὐτὸν 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n a cir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η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people sitting (acc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έγει, Ἴδε ἡ μήτηρ μου καὶ οἱ ἀδελφοί μ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ς ἃ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ήσ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anslate as i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] τὸ θέλημα τοῦ θεοῦ, οὗτος ἀδελφός μου καὶ ἀδελφὴ καὶ μήτηρ ἐστ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46:34Z</dcterms:created>
  <dc:creator>Sarah</dc:creator>
  <dc:description/>
  <dc:language>en-US</dc:language>
  <cp:lastModifiedBy>Sarah</cp:lastModifiedBy>
  <dcterms:modified xsi:type="dcterms:W3CDTF">2008-09-19T08:44:34Z</dcterms:modified>
  <cp:revision>16</cp:revision>
  <dc:subject/>
  <dc:title>Slide 1</dc:title>
</cp:coreProperties>
</file>